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F87-558E-4CCA-8D47-1D6F2E76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1B7-E736-4565-84A1-39AA28FF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6D4-3628-45C0-8B0C-7D45D3C8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4F6-E1A0-41B1-B4F2-E49CC7E1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BF1-5444-48BC-86BF-C0EEBA4D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A8B6-867A-49C9-A288-B06FC5B1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15F1-B3DE-45B3-A07E-FFC1602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3626-3850-4CA7-B090-F0DACAE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85E2-7493-4366-ACE0-ED1510AE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5EEC-85A8-44E9-9704-1B09C963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330-644E-495E-A72B-919D07C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9EE-C325-449E-8E45-10270175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429-4D05-42CE-AF41-15A4F0A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C5C9-B02A-4834-8595-B638C03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566-2B1B-4735-9CC1-5442A60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CE5-CD66-4B09-AD85-2AF7B1D4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4FE-E823-466B-9C48-D7C3C8D4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14A-0C40-442F-9C44-46B09C0B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0FD-D4FA-4B73-A909-6A6C63E5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8F0-10AF-435D-A7F7-645D696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938-631A-4177-B8AD-61378137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8CA-9925-4E10-81E2-B3D740F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050-748A-4C04-8696-9526FAFA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F6C-5AF7-44A9-9823-13E7B3CC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80CB-7DB4-41A6-B2BA-FBC49AEE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prstGeom prst="pie">
                <a:avLst/>
              </a:prstGeom>
              <a:solidFill>
                <a:srgbClr val="0000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prstGeom prst="pie">
                    <a:avLst/>
                  </a:prstGeom>
                  <a:solidFill>
                    <a:srgbClr val="b1d8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prstGeom prst="pi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prstGeom prst="pie">
                  <a:avLst/>
                </a:prstGeom>
                <a:solidFill>
                  <a:srgbClr val="b1d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b1d8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91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94DF-C6D1-43E0-9308-1BF87BF2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5809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822cd"/>
                </a:solidFill>
                <a:latin typeface="Times New Roman"/>
              </a:rPr>
              <a:t>Maps and Geography Unit</a:t>
            </a:r>
            <a:endParaRPr b="0" i="1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752480" y="1295280"/>
            <a:ext cx="5715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6629400" y="6019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ised October 20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638712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4572000" y="297180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3276360" y="4191120"/>
            <a:ext cx="2514600" cy="1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267080" y="2362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716440" y="3809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2668680" y="3809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4345200" y="5410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62120" y="2895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How is a map different from a glo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1066680" y="28195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 map is a flat picture of the Earth, and a globe is a model of the Earth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7030440" y="5262480"/>
            <a:ext cx="37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Tahoma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804240" y="2514600"/>
            <a:ext cx="847908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equator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 place at the north p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an imaginary line running ar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the middle of the Earth on a map or a glo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c) a longitudinal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d) also called 0 degrees latitu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6692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1295280" y="28288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The equator is an imaginary line run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around the middle of the Earth on a 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or a globe (b) and is also called 0° latitude (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33520" y="2514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prime meridian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1981080" y="32004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a place at the south p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an imaginary line running from the north pole to the south p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c) a line of lati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d) also called 0° (degrees) longitu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821592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523880" y="28288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The Prime Meridian is an imaginary line running from the north pole to the south pole and is also called 0° (degrees) longitude (b and 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n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7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10" name="Straight Arrow Connector 9"/>
          <p:cNvCxnSpPr/>
          <p:nvPr/>
        </p:nvCxnSpPr>
        <p:spPr>
          <a:xfrm>
            <a:off x="914040" y="45720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1" name="Straight Arrow Connector 11"/>
          <p:cNvCxnSpPr/>
          <p:nvPr/>
        </p:nvCxnSpPr>
        <p:spPr>
          <a:xfrm>
            <a:off x="1142640" y="510552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Straight Arrow Connector 12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Straight Arrow Connector 13"/>
          <p:cNvCxnSpPr/>
          <p:nvPr/>
        </p:nvCxnSpPr>
        <p:spPr>
          <a:xfrm flipV="1">
            <a:off x="4038120" y="6249240"/>
            <a:ext cx="686520" cy="22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15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527400" y="4343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7606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3505320" y="60958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7987320" y="5522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nc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0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23" name="Straight Arrow Connector 13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TextBox 15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990720" y="22096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line is the Tropic of Capricor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867280" cy="30798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2"/>
          <p:cNvSpPr/>
          <p:nvPr/>
        </p:nvSpPr>
        <p:spPr>
          <a:xfrm>
            <a:off x="9049680" y="4567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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29" name="Straight Arrow Connector 13"/>
          <p:cNvCxnSpPr/>
          <p:nvPr/>
        </p:nvCxnSpPr>
        <p:spPr>
          <a:xfrm>
            <a:off x="914040" y="45720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Straight Arrow Connector 14"/>
          <p:cNvCxnSpPr/>
          <p:nvPr/>
        </p:nvCxnSpPr>
        <p:spPr>
          <a:xfrm>
            <a:off x="1142640" y="510552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15"/>
          <p:cNvCxnSpPr/>
          <p:nvPr/>
        </p:nvCxnSpPr>
        <p:spPr>
          <a:xfrm>
            <a:off x="1066320" y="4038120"/>
            <a:ext cx="76284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2" name="Straight Arrow Connector 16"/>
          <p:cNvCxnSpPr/>
          <p:nvPr/>
        </p:nvCxnSpPr>
        <p:spPr>
          <a:xfrm flipV="1">
            <a:off x="4038120" y="6249240"/>
            <a:ext cx="686520" cy="22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3" name="TextBox 17"/>
          <p:cNvSpPr/>
          <p:nvPr/>
        </p:nvSpPr>
        <p:spPr>
          <a:xfrm>
            <a:off x="5335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8"/>
          <p:cNvSpPr/>
          <p:nvPr/>
        </p:nvSpPr>
        <p:spPr>
          <a:xfrm>
            <a:off x="527400" y="4343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7606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3505320" y="6095880"/>
            <a:ext cx="4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822cd"/>
                </a:solidFill>
                <a:latin typeface="Times New Roman"/>
              </a:rPr>
              <a:t>Maps &amp; Geography Jeopardy</a:t>
            </a: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80880" y="838080"/>
          <a:ext cx="845820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4582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533520" y="9144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cabulary &amp; Map Par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733920" y="990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ea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876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876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6876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6876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876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228780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55645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7"/>
          <p:cNvSpPr/>
          <p:nvPr/>
        </p:nvSpPr>
        <p:spPr>
          <a:xfrm>
            <a:off x="396432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18"/>
          <p:cNvSpPr/>
          <p:nvPr/>
        </p:nvSpPr>
        <p:spPr>
          <a:xfrm>
            <a:off x="7240680" y="1676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9"/>
          <p:cNvSpPr/>
          <p:nvPr/>
        </p:nvSpPr>
        <p:spPr>
          <a:xfrm>
            <a:off x="228780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396432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564520" y="2514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72406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228780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39643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556452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7240680" y="32767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228780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39643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556452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72406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31"/>
          <p:cNvSpPr/>
          <p:nvPr/>
        </p:nvSpPr>
        <p:spPr>
          <a:xfrm>
            <a:off x="228780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32"/>
          <p:cNvSpPr/>
          <p:nvPr/>
        </p:nvSpPr>
        <p:spPr>
          <a:xfrm>
            <a:off x="39643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33"/>
          <p:cNvSpPr/>
          <p:nvPr/>
        </p:nvSpPr>
        <p:spPr>
          <a:xfrm>
            <a:off x="556452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7240680" y="4876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6027120" y="5791320"/>
            <a:ext cx="217728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486400" y="990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ing Coordina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2438280" y="9907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in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7242840" y="9907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362320" y="2666880"/>
            <a:ext cx="5257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8"/>
          <p:cNvSpPr/>
          <p:nvPr/>
        </p:nvSpPr>
        <p:spPr>
          <a:xfrm>
            <a:off x="2575080" y="4756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11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867280" cy="3079800"/>
          </a:xfrm>
          <a:prstGeom prst="rect">
            <a:avLst/>
          </a:prstGeom>
          <a:ln w="0">
            <a:noFill/>
          </a:ln>
        </p:spPr>
      </p:pic>
      <p:cxnSp>
        <p:nvCxnSpPr>
          <p:cNvPr id="442" name="Straight Arrow Connector 12"/>
          <p:cNvCxnSpPr/>
          <p:nvPr/>
        </p:nvCxnSpPr>
        <p:spPr>
          <a:xfrm>
            <a:off x="1066320" y="4800600"/>
            <a:ext cx="762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3" name="Rectangle 13"/>
          <p:cNvSpPr/>
          <p:nvPr/>
        </p:nvSpPr>
        <p:spPr>
          <a:xfrm>
            <a:off x="60840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803320" y="3809880"/>
            <a:ext cx="24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Meridia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rall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1828800" y="23623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is another name for lines of latitu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Imaginary Lin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2160720" y="2590920"/>
            <a:ext cx="510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What is another name for lines of latitud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b. paralle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4634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747360" y="243828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10" descr="Atlantic"/>
          <p:cNvPicPr/>
          <p:nvPr/>
        </p:nvPicPr>
        <p:blipFill>
          <a:blip r:embed="rId1"/>
          <a:stretch/>
        </p:blipFill>
        <p:spPr>
          <a:xfrm>
            <a:off x="1676520" y="31240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967840" y="563868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tlantic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75301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Picture 6" descr="Atlantic"/>
          <p:cNvPicPr/>
          <p:nvPr/>
        </p:nvPicPr>
        <p:blipFill>
          <a:blip r:embed="rId1"/>
          <a:stretch/>
        </p:blipFill>
        <p:spPr>
          <a:xfrm>
            <a:off x="1752480" y="21337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762120" y="25146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9" name="Picture 5" descr="Pacific"/>
          <p:cNvPicPr/>
          <p:nvPr/>
        </p:nvPicPr>
        <p:blipFill>
          <a:blip r:embed="rId1"/>
          <a:stretch/>
        </p:blipFill>
        <p:spPr>
          <a:xfrm>
            <a:off x="1752480" y="32004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3334320" y="5715000"/>
            <a:ext cx="25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79110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7" descr="Pacific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747360" y="2286000"/>
            <a:ext cx="77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6" name="Picture 5" descr="Arctic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478320" y="5791320"/>
            <a:ext cx="24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Picture 9" descr="Arctic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85800" y="2362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ocean is shown in blue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Picture 6" descr="Indian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914400" y="251460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n which hemispheres is the United 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northern</a:t>
            </a: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south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ea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es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3200400" y="56386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dian Oce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7" name="Picture 6" descr="Indian"/>
          <p:cNvPicPr/>
          <p:nvPr/>
        </p:nvPicPr>
        <p:blipFill>
          <a:blip r:embed="rId1"/>
          <a:stretch/>
        </p:blipFill>
        <p:spPr>
          <a:xfrm>
            <a:off x="1752480" y="22096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914400" y="2209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Southern Ocean is located above which contin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0" name="Picture 6" descr="Continents"/>
          <p:cNvPicPr/>
          <p:nvPr/>
        </p:nvPicPr>
        <p:blipFill>
          <a:blip r:embed="rId1"/>
          <a:stretch/>
        </p:blipFill>
        <p:spPr>
          <a:xfrm>
            <a:off x="1752480" y="312408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Ocean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764520" y="571500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8215920" y="605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7" descr="Continents"/>
          <p:cNvPicPr/>
          <p:nvPr/>
        </p:nvPicPr>
        <p:blipFill>
          <a:blip r:embed="rId1"/>
          <a:stretch/>
        </p:blipFill>
        <p:spPr>
          <a:xfrm>
            <a:off x="1676520" y="220968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304920" y="2286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atitude show you how far north or south a location is from the __________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33520" y="2971800"/>
            <a:ext cx="78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Lines of latitude show you how far north or south a location is from the equato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813960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752480" y="304812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ongitude show you how far east or west a location is from the _________________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83682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2286000" y="29671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Lines of longitude show you how far east or west a location is from the prime meridi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838080" y="19810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found at 30°S 130°E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7" name="Picture 7" descr=""/>
          <p:cNvPicPr/>
          <p:nvPr/>
        </p:nvPicPr>
        <p:blipFill>
          <a:blip r:embed="rId1"/>
          <a:stretch/>
        </p:blipFill>
        <p:spPr>
          <a:xfrm>
            <a:off x="914400" y="3022560"/>
            <a:ext cx="70102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07600" y="3048120"/>
            <a:ext cx="64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The Rio Grande River divides Tex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from Mexico (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82922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990720" y="3022560"/>
            <a:ext cx="7010280" cy="38354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8380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ustralia is found at 30°S 130°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found at 15°N, 0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990720" y="2814480"/>
            <a:ext cx="73911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653120" y="304812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Northern and western (a and 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606440" y="567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02680" y="5867280"/>
            <a:ext cx="53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 - Great Lakes Reg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21592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7" descr=""/>
          <p:cNvPicPr/>
          <p:nvPr/>
        </p:nvPicPr>
        <p:blipFill>
          <a:blip r:embed="rId1"/>
          <a:stretch/>
        </p:blipFill>
        <p:spPr>
          <a:xfrm>
            <a:off x="990720" y="3022560"/>
            <a:ext cx="7010280" cy="383544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4"/>
          <p:cNvSpPr/>
          <p:nvPr/>
        </p:nvSpPr>
        <p:spPr>
          <a:xfrm>
            <a:off x="762120" y="2286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frica is found at 15°N, 0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71840" y="9903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304920" y="911160"/>
            <a:ext cx="5911560" cy="5654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7"/>
          <p:cNvSpPr/>
          <p:nvPr/>
        </p:nvSpPr>
        <p:spPr>
          <a:xfrm>
            <a:off x="6324480" y="2971800"/>
            <a:ext cx="281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ive the approximate coordinates for Addis Ababa which is the capital of Ethiopia. (answer must be within 2 degre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Finding Coordinate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990720" y="28954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ddis Ababa, Ethiopia is located at 9°N, 39°E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78350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Question </a:t>
            </a:r>
            <a:br>
              <a:rPr sz="4400"/>
            </a:b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8120" y="2362320"/>
            <a:ext cx="80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cc0000"/>
                </a:solidFill>
                <a:latin typeface="Arial MT Condensed Light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9" name="Picture 5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1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3282840" y="5791320"/>
            <a:ext cx="25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7911000" y="582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80880" y="228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6600cc"/>
                </a:solidFill>
                <a:latin typeface="Arial MT Condensed Light"/>
              </a:rPr>
              <a:t>purpl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6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2990160" y="58672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South Ame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8063640" y="5979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0" name="Picture 7" descr="Continents"/>
          <p:cNvPicPr/>
          <p:nvPr/>
        </p:nvPicPr>
        <p:blipFill>
          <a:blip r:embed="rId1"/>
          <a:stretch/>
        </p:blipFill>
        <p:spPr>
          <a:xfrm>
            <a:off x="167652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0920" y="990360"/>
            <a:ext cx="408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04920" y="2286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ff9933"/>
                </a:solidFill>
                <a:latin typeface="Arial MT Condensed Light"/>
              </a:rPr>
              <a:t>orang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3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597120" y="579132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8139600" y="5904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6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533520" y="22860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at continent is shown in </a:t>
            </a:r>
            <a:r>
              <a:rPr b="1" lang="en-US" sz="2800" spc="-1" strike="noStrike">
                <a:solidFill>
                  <a:srgbClr val="3366ff"/>
                </a:solidFill>
                <a:latin typeface="Arial MT Condensed Light"/>
              </a:rPr>
              <a:t>blue</a:t>
            </a: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 on this ma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6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Question </a:t>
            </a:r>
            <a:br>
              <a:rPr sz="4400"/>
            </a:b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990720" y="236232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political ma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boundaries that can be seen from outer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the names of political lea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3784320" y="5791320"/>
            <a:ext cx="15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806364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" name="Picture 6" descr="Continents"/>
          <p:cNvPicPr/>
          <p:nvPr/>
        </p:nvPicPr>
        <p:blipFill>
          <a:blip r:embed="rId1"/>
          <a:stretch/>
        </p:blipFill>
        <p:spPr>
          <a:xfrm>
            <a:off x="1600200" y="2286000"/>
            <a:ext cx="5840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914400" y="22860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ich 2 continents are mostly conn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8" descr="Continents"/>
          <p:cNvPicPr/>
          <p:nvPr/>
        </p:nvPicPr>
        <p:blipFill>
          <a:blip r:embed="rId1"/>
          <a:stretch/>
        </p:blipFill>
        <p:spPr>
          <a:xfrm>
            <a:off x="1752480" y="3048120"/>
            <a:ext cx="58406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5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Continen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791080" y="58672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Europe and As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8520840" y="575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1" name="Picture 7" descr="Continents"/>
          <p:cNvPicPr/>
          <p:nvPr/>
        </p:nvPicPr>
        <p:blipFill>
          <a:blip r:embed="rId1"/>
          <a:stretch/>
        </p:blipFill>
        <p:spPr>
          <a:xfrm>
            <a:off x="1752480" y="2286000"/>
            <a:ext cx="58406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8"/>
          <p:cNvSpPr txBox="1"/>
          <p:nvPr/>
        </p:nvSpPr>
        <p:spPr>
          <a:xfrm>
            <a:off x="1143000" y="114300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2608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80880" y="4114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Why is the Pacific Ocean shown in two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places on a map of the worl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150840" y="3581280"/>
            <a:ext cx="8850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Pacific Ocean is shown in tw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places on a map of the world becaus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the world is round, but a map is flat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In order to make it flat, they had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MT Condensed Light"/>
              </a:rPr>
              <a:t>divide the ocean in half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WordArt 5"/>
          <p:cNvSpPr txBox="1"/>
          <p:nvPr/>
        </p:nvSpPr>
        <p:spPr>
          <a:xfrm>
            <a:off x="1752480" y="1295280"/>
            <a:ext cx="55627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2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6768000" y="559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2286000" y="241308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 Condensed Light"/>
              </a:rPr>
              <a:t>A political ma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066680" y="2743200"/>
            <a:ext cx="7086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topographical or physical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man made bounda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boundaries that can be seen from outer sp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MT Condensed Ligh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Shows the names of political lead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300 Answer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371600" y="2819520"/>
            <a:ext cx="6629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A topographical (physical)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MT Condensed Light"/>
              </a:rPr>
              <a:t>(c) Shows land elev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7835040" y="5675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Times New Roman"/>
              </a:rPr>
              <a:t>$400 Question </a:t>
            </a:r>
            <a:br>
              <a:rPr sz="4400"/>
            </a:br>
            <a:r>
              <a:rPr b="0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1822cd"/>
                </a:solidFill>
                <a:latin typeface="Times New Roman"/>
              </a:rPr>
              <a:t>Vocabulary &amp; Map Parts</a:t>
            </a:r>
            <a:endParaRPr b="0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43000" y="23623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MT Condensed Light"/>
              </a:rPr>
              <a:t>Identify the directions on this compass ro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676520" y="3657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9"/>
          <p:cNvSpPr/>
          <p:nvPr/>
        </p:nvSpPr>
        <p:spPr>
          <a:xfrm>
            <a:off x="4572000" y="3733920"/>
            <a:ext cx="0" cy="25146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0"/>
          <p:cNvSpPr/>
          <p:nvPr/>
        </p:nvSpPr>
        <p:spPr>
          <a:xfrm flipH="1">
            <a:off x="3276360" y="4952880"/>
            <a:ext cx="251460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1:26:06Z</dcterms:created>
  <dc:creator>SCPS</dc:creator>
  <dc:description/>
  <dc:language>en-US</dc:language>
  <cp:lastModifiedBy>Emeliza Ciavarro</cp:lastModifiedBy>
  <dcterms:modified xsi:type="dcterms:W3CDTF">2011-10-04T13:40:48Z</dcterms:modified>
  <cp:revision>98</cp:revision>
  <dc:subject/>
  <dc:title>Jeopardy</dc:title>
</cp:coreProperties>
</file>